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302-1543-40D2-9619-A6019579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33F-6518-4560-A2E3-2C27197A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CD1-43E5-4FB1-A8F8-C687663C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FCEE-68B0-436F-80D7-5C271461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8DB-8847-4838-A497-9D4166E2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53D2-8003-4D87-A520-14A8508F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B36-0D40-408B-A184-99E63FFC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104-5F7F-4AC4-B9D8-D05B1460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5F5-ED6C-4C7E-8732-7EFB0FB3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465-6518-402B-A199-B3F5231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AE5-C270-4340-9C42-CF2E810E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E3E-0E43-4F94-8A96-7134208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04C3-711C-47CB-95ED-26642BED3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riting an Effective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398389[1]"/>
          <p:cNvPicPr/>
          <p:nvPr/>
        </p:nvPicPr>
        <p:blipFill>
          <a:blip r:embed="rId1"/>
          <a:stretch/>
        </p:blipFill>
        <p:spPr>
          <a:xfrm>
            <a:off x="3276720" y="1143000"/>
            <a:ext cx="2361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t Minute Ti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resume to obtain an intervie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tio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with your str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uzz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nt the positive, not the neg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leave incomplete information on your resume (i.e. apartment numb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rofessional tone and wording on your resume as well as text size and f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your resume in a secure place such as on a disk or USB dr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Career Advisor at the Center for Career Development review your resu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 the Career Fair date (must). Print appropriate copies of finalized resume on bond pape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u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n Effective Resu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ne page detailed summary of your qualifications. These include skills, experience, and education related to a specific position or career field (sample attach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details to be included: contact information, clear objective, education, work experience, skills, activities and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Resume, Chronologic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obert J. Martinez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3 Julliard Avenue, Apt. 44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nx, New York 104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18) 555-12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: address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obtain a position as a Teacher’s Aide with an opportunity for professional growth and develop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rough of Manhattan Community Colle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ssociate in Arts Degre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xpected June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: Bilingual Childhood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IFICATE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rough of Manhattan Community Colle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ssistant of Children with Special Needs Certific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ecemb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NOR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ean’s Li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orough of Manhattan Community College, Spring 2006-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SHIP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k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eacher’s Aide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January 2006-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ork with students with varied abilities and learning nee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st a fourth grade teacher with creating and implementing lesson plans in reading, writing, and cultu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p with coordinating “Kids Day” at the scho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aborate with other fourth grade teachers in organizing a day camp to complement a geography un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ERIENCE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c School 98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u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ptember 2004-Januar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tored second and third grade students in English and Science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sted children with home work assignments and projec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d individualized, intensive tutoring to children with special n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swered teachers and parents questions concerning children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ILL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uent in English and Spani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soft Windows, Office, Word, Power point, Excel, and Internet applic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e business machines and office equip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 communication and interpersonal skil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rience with diverse populations and able to work well with others and independent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FERENCES AVAILABLE UPON REQUEST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Res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ually lists work experience and skills sorted by skills area or job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ually leads with a functional list of job skills, followed by a chronological list of emplo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Inform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Im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resume looks original and not based on a tem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be inviting to read, with clear sections, and free of any careless typos or spelling, grammar and syntax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preferably be written on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be visually pleasing, with a polished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design elements such as bullets, bolding lines to guide readers’ eyes through the res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s should be even on all sides and design elements should be consistent throug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y, the resume should be one page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d resume needs to be printed on bond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be clear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y structured in reverse chronological order, with most recent position listed first and d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 (description of your 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described toward the top of the resu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kills should be targeted towards a specific career goal (position or industry) and not be a one-size-fits-all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omplish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should include a solid listing detailing career accomplish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ment statements should begin with strong, varied actions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ing Sty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pronouns such as I, me and my should be avo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hould flow logically and be easy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5:23:26Z</dcterms:created>
  <dc:creator>kchu</dc:creator>
  <dc:description/>
  <dc:language>en-US</dc:language>
  <cp:lastModifiedBy>Com.Art</cp:lastModifiedBy>
  <dcterms:modified xsi:type="dcterms:W3CDTF">2009-04-10T21:10:12Z</dcterms:modified>
  <cp:revision>17</cp:revision>
  <dc:subject/>
  <dc:title>“Writing an Effective Resume and Cover Letter!” </dc:title>
</cp:coreProperties>
</file>