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700E-6E6E-4652-95AA-86C77223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5C5-4006-4F85-8CD6-BAC789B7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D20-69A2-4C60-85D5-6490FB7E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69F-3E07-49D3-82DE-5D34C888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A23C-969E-41F5-B757-7B55F996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853-5648-490C-A734-418E9FAB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FD0-C97B-4DA0-852A-58FCD7D6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E0A-3A35-4DAD-BE38-8A6B674E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FE6-49CC-4791-996B-4BBB17DC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0EA-F893-4402-80AC-44BF2A0E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A79-0186-40A9-BC47-81460C86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BC0-7E31-4232-93AB-BE896760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6399-22BC-452A-90D0-83329DFBA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riting an Effective Res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398389[1]"/>
          <p:cNvPicPr/>
          <p:nvPr/>
        </p:nvPicPr>
        <p:blipFill>
          <a:blip r:embed="rId1"/>
          <a:stretch/>
        </p:blipFill>
        <p:spPr>
          <a:xfrm>
            <a:off x="3276720" y="1143000"/>
            <a:ext cx="2361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st Minute Ti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your resume to obtain an intervie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ctio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with your streng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uzz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nt the positive, not the nega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leave incomplete information on your resume (i.e. apartment numb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professional tone and wording on your resume as well as text size and f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your resume in a secure place such as on a disk or USB dr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Career Advisor at the Center for Career Development review your resu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fore the Career Fair date (must). Print appropriate copies of finalized resume on bond paper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Lu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n Effective Resu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one page detailed summary of your qualifications. These include skills, experience, and education related to a specific position or career field (sample attach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details to be included: contact information, clear objective, education, work experience, skills, activities and inter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Resume, Chronological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obert J. Martinez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3 Julliard Avenue, Apt. 44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onx, New York 104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18) 555-12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mail: address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obtain a position as a Teacher’s Aide with an opportunity for professional growth and develop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UCATION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rough of Manhattan Community Colleg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ew York, New Y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ssociate in Arts Degre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xpected June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jor: Bilingual Childhood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IFICATE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rough of Manhattan Community Colleg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ew York, New Y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ssistant of Children with Special Needs Certifica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ecemb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NOR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ean’s Li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orough of Manhattan Community College, Spring 2006-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SHIP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k Elementary Scho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ew York, New Y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eacher’s Aide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January 2006-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ork with students with varied abilities and learning nee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sist a fourth grade teacher with creating and implementing lesson plans in reading, writing, and cultu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lp with coordinating “Kids Day” at the schoo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aborate with other fourth grade teachers in organizing a day camp to complement a geography uni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ERIENCE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blic School 98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ew York, New Y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u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ptember 2004-January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tored second and third grade students in English and Science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sisted children with home work assignments and projec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vided individualized, intensive tutoring to children with special nee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swered teachers and parents questions concerning children as need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KILL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uent in English and Spani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crosoft Windows, Office, Word, Power point, Excel, and Internet applic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e business machines and office equip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od communication and interpersonal skil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erience with diverse populations and able to work well with others and independent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EFERENCES AVAILABLE UPON REQUEST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ypes of Resu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ually lists work experience and skills sorted by skills area or job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b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Usually leads with a functional list of job skills, followed by a chronological list of emplo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Inform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 Im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e resume looks original and not based on a temp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me should be inviting to read, with clear sections, and free of any careless typos or spelling, grammar and syntax err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me should preferably be written on Microsof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ea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me should be visually pleasing, with a polished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design elements such as bullets, bolding lines to guide readers’ eyes through the res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s should be even on all sides and design elements should be consistent through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ably, the resume should be one page in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ea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zed resume needs to be printed on bond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be clearly organ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ably structured in reverse chronological order, with most recent position listed first and d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jective (description of your ski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described toward the top of the resu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skills should be targeted towards a specific career goal (position or industry) and not be a one-size-fits-all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complishmen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me should include a solid listing detailing career accomplish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plishment statements should begin with strong, varied actions v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riting Sty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pronouns such as I, me and my should be avo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hould flow logically and be easy to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15:23:26Z</dcterms:created>
  <dc:creator>kchu</dc:creator>
  <dc:description/>
  <dc:language>en-US</dc:language>
  <cp:lastModifiedBy>Com.Art</cp:lastModifiedBy>
  <dcterms:modified xsi:type="dcterms:W3CDTF">2009-04-10T21:10:12Z</dcterms:modified>
  <cp:revision>17</cp:revision>
  <dc:subject/>
  <dc:title>“Writing an Effective Resume and Cover Letter!” </dc:title>
</cp:coreProperties>
</file>