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A6B-2D62-403D-ACF3-2610CA08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CEB-6483-4B08-AE02-7CB6F94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9EF-56B4-4930-862C-87C11E27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092-1211-4C1E-A7C2-E263C9F6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BBD-A97B-4517-9125-BAD1E6A5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407-569A-47BC-AED0-29BD8E2A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7E6-45FA-479B-A3E8-381BD9F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90E-234B-41A8-B448-87A10DD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B7C-6AAE-4973-963E-3D674C2C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C03-EF84-4DBF-9CEA-2FC3716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189-F835-4E21-A3D6-E5AFFFE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6A1-4351-428A-BA38-A0E38D9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BF3-4E1E-4E5B-B1AB-EE519133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riting an Effective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98389[1]"/>
          <p:cNvPicPr/>
          <p:nvPr/>
        </p:nvPicPr>
        <p:blipFill>
          <a:blip r:embed="rId1"/>
          <a:stretch/>
        </p:blipFill>
        <p:spPr>
          <a:xfrm>
            <a:off x="3276720" y="114300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t Minute Ti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resume to obtain an intervie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with your str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uzz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he positive, not the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ave incomplete information on your resume (i.e. apartment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fessional tone and wording on your resume as well as text size and f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 resume in a secure place such as on a disk or USB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areer Advisor at the Center for Career Development review your resu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the Career Fair date (must). Print appropriate copies of finalized resume on bond pap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ffective Res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 page detailed summary of your qualifications. These include skills, experience, and education related to a specific position or career field (sample attach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etails to be included: contact information, clear objective, education, work experience, skills, activities and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me, Chronologic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bert J. Martine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3 Julliard Avenue, Apt. 44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nx, New York 104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18) 555-12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address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obtain a position as a Teacher’s Aide with an opportunity for professional growth and develo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ociate in Arts Degre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xpected Jun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: Bilingual Childhood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IFICAT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istant of Children with Special Needs Certific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ecemb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OR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ean’s Li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orough of Manhattan Community College, Spring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SHIP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k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eacher’s Aide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anuary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rk with students with varied abilities and learning nee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 a fourth grade teacher with creating and implementing lesson plans in reading, writing, and cul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p with coordinating “Kids Day” at the sch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e with other fourth grade teachers in organizing a day camp to complement a geography un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ERIENC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c School 98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u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ptember 2004-Jan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tored second and third grade students in English and Science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ed children with home work assignments and projec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d individualized, intensive tutoring to children with special n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ed teachers and parents questions concerning children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LL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ent in English and Spani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Windows, Office, Word, Power point, Excel, and Interne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e business machines and office equi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 communication and interpersonal ski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with diverse populations and able to work well with others and independ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FERENCES AVAILABLE UPON REQUEST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lists work experience and skills sorted by skills area or job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leads with a functional list of job skills, followed by a chronological list of emplo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Im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resume looks original and not based on a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inviting to read, with clear sections, and free of any careless typos or spelling, grammar and syntax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preferably be written o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visually pleasing, with a polished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esign elements such as bullets, bolding lines to guide readers’ eyes through the re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s should be even on all sides and design elements should be consistent throug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, the resume should be one pa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resume needs to be printed on bo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clear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 structured in reverse chronological order, with most recent position listed first and d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 (description of your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described toward the top of the resu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kills should be targeted towards a specific career goal (position or industry) and not be a one-size-fits-all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omplish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should include a solid listing detailing career accomplis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statements should begin with strong, varied actions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pronouns such as I, me and my should be avo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hould flow logically and be easy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23:26Z</dcterms:created>
  <dc:creator>kchu</dc:creator>
  <dc:description/>
  <dc:language>en-US</dc:language>
  <cp:lastModifiedBy>Com.Art</cp:lastModifiedBy>
  <dcterms:modified xsi:type="dcterms:W3CDTF">2009-04-10T21:10:12Z</dcterms:modified>
  <cp:revision>17</cp:revision>
  <dc:subject/>
  <dc:title>“Writing an Effective Resume and Cover Letter!” </dc:title>
</cp:coreProperties>
</file>